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0CAD-5437-48FA-9F63-D50B52456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FDD0-C553-4203-BD58-C08CCD0755A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D087-DE7D-4546-AECF-B7CD924D7297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3086-8395-42C2-8C00-D899D2AE2707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7369-56F8-47E8-A1B9-A180599E7FF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9013-531E-4CBA-8F91-EAAE48EC38B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3523-F468-49D1-A3EC-8AFF858E3E5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DCDA-D0F5-4435-9354-76D9F646A88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C31E-166B-46F3-92AE-47827613B55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5B89-8845-4312-BBDD-2637A0A49CF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688D-5974-444D-A029-D63D5F4A051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1FBD-D9E7-4D39-9ED2-9C819380E9D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15F0-2C1F-4E79-BFE1-157FA5BDF3B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DBF1-C16A-4A6B-9085-82A3D710ADA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5529-4E86-4C15-A98E-9BA163651AD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0D3A-C105-4829-A52A-FE7E6D04C83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0F9-AA5D-4232-92B0-448BC88E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9A8-083E-400B-8C51-47A16496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2B5-6453-4F75-85D7-A5988149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E86-3378-4952-B8DE-56C0D578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A3AB-06F0-4D85-AD63-40F85578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6A76-64DB-4BB3-B04C-2576FFEA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2C18-8C4B-4FB5-91E0-5A755005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EFC0-789D-464D-95BE-943D3888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9DF6-A7B0-47F0-B4EA-40F84B35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4BEA-5CBB-48F3-8AA2-1CF4E855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3D1F-1DEE-4615-8255-22667306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7937-CFBB-4454-999B-2FF6471E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3E1F-A4A7-4791-B9D5-C16DEFC0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7423-AAB8-4F62-AB6E-3617AAA8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3F5B-C20E-445B-A873-A5E2577B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17F2-207E-4EA5-B05F-9ED7B679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B715-AA2B-4FED-8801-7E1CA486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C5A2A-B77B-4184-8A35-39ED23CF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39CFC-344E-494F-8B26-B4BE54B5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74E7D-6DF6-4562-BEBB-75677669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98716-A0AF-4065-8D2C-C466F471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2B205-2AC8-4CB7-9825-D6487241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6103-25A6-4471-A07D-9F025428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2B9B2-F582-41C5-9702-25B57311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9617A-F4F8-494C-8F7E-A37F72CC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85C9E-5FBC-40EA-9861-C501A43A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BADE4-4A16-4B2D-BEB5-751B20B8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5FA67-A120-416C-AE91-DBB2913E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0E2DB-1325-45EF-A9F7-DF59EEF5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C43AA-1E6E-4885-A4E3-023F6AFA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1FB3B-7F67-4B0E-BD53-3FAFF174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FECA4-78FE-445D-866E-2993CEDD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E94F8-C31B-42B7-84F6-C5A8F741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FBF-9670-46EA-9A0F-FE0A421F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0E01A-ECF8-4B19-82C8-417A18B8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27E89-D27E-49F1-8394-C9631568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A20F5-4D0A-49BA-90E7-7CF88D9F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3DA78-94A7-4031-825D-51A1FC76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BAEBB-A198-4356-BD16-8D7E3BA0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2FB01-E22E-466C-9024-5BE2294C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9A1BC-8F98-4705-A6CF-E64C1FC3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C96A2-22C7-423B-B228-EA4EAEDC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9F65E-6D90-4D32-9653-83E2A4C8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BE916-E3B3-43F0-BB3A-4E58B515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717-E8BE-40F1-84CE-652E4192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D5F19-1E92-4946-8355-A1CEBA3E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8C773-AA12-4E01-B956-D6A53483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B15E9-DC47-4C1F-996F-BAF164CC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AFB16-BCEB-4D7F-BD02-2F907AE2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7364A-2C48-4D0F-8F9E-BCAFF44A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DAFB0-52DA-463F-9D25-24408514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6A8CF-68E0-47FB-9597-079547D2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9D127-001D-4B99-AD0F-67773DC5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F02ED-4247-457F-853C-076F979C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B93ED-4CAA-430C-AF59-B1B7AABB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8C22-97B2-4DD2-B9F6-AE42CC14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24C0A-1319-4B1F-97C4-5A5E21EF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AD65D-EA60-4431-944B-9DEC150B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E4995-08A8-48CF-A60C-337E6610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68AB4-D6F1-45A7-9958-B8192DFE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D8E1E-06FA-4EBC-86E9-D08D670A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2FBD8-39BC-4A88-9F73-783F4FA1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0DD4A-7C75-4294-A5C0-5A9950A1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78616-C899-4F7A-A088-CDA5599E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45F3B-D1A5-4161-B34C-12E321CE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597EF-F164-497F-BD12-C33C6671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65C-D0CD-4C00-B31E-CA6DA632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B6DD6-ED17-4A06-84E0-09E582C4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CDE1E-37F7-4484-8716-5D2D1294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8F4A2-6801-4E8B-8C6E-AC7E8624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AF1-22A4-41ED-A9D7-F83E4F7B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A71-BDCD-4761-B1A7-34898A45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D9C2-AEA6-4D74-A594-EBE158ABC86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5402-3293-4DE4-BEF1-F451A57DB7E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5E29-81B0-431A-942D-C943C699481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9016-9625-457C-9744-5B28D7577CA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8380-1CA2-4D00-9BD6-0C27751E4D0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F8A6-AFB1-47F2-A750-B0F12D2DFA3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4" descr=""/>
          <p:cNvPicPr/>
          <p:nvPr/>
        </p:nvPicPr>
        <p:blipFill>
          <a:blip r:embed="rId1"/>
          <a:stretch/>
        </p:blipFill>
        <p:spPr>
          <a:xfrm>
            <a:off x="512640" y="1365120"/>
            <a:ext cx="7882200" cy="1895760"/>
          </a:xfrm>
          <a:prstGeom prst="rect">
            <a:avLst/>
          </a:prstGeom>
          <a:ln w="0">
            <a:noFill/>
          </a:ln>
        </p:spPr>
      </p:pic>
      <p:sp>
        <p:nvSpPr>
          <p:cNvPr id="303" name="Subtitle 3"/>
          <p:cNvSpPr/>
          <p:nvPr/>
        </p:nvSpPr>
        <p:spPr>
          <a:xfrm>
            <a:off x="1371600" y="39625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2133360" y="4952520"/>
            <a:ext cx="5105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lin Sans FB"/>
              </a:rPr>
              <a:t>Rizalina G. Gomez, Ph.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Arial Narrow"/>
              </a:rPr>
              <a:t>Other Terms for Educational / Instructional Med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raining a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Visual a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udio a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udio-visual a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arning resourc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structional materi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ducational materi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ulti-sensory materi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533520" y="609480"/>
          <a:ext cx="8229600" cy="2819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roadcast 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ss 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dium that disseminates info to a large number of recipients via telec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dia envisioned and designed to reach a very large aud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533520" y="3429000"/>
          <a:ext cx="8229600" cy="1884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dio and telev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spapers, magazines, comics, radio, telev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457200" y="380880"/>
          <a:ext cx="8229600" cy="167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udio Med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isual Med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mphasizes use of hear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mphasizes use of the sense of sight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457200" y="3657600"/>
          <a:ext cx="8229600" cy="13939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udio-visual Med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mphasizes use of hearing and see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457200" y="2057400"/>
          <a:ext cx="8229600" cy="1295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 radio, audio discs, recordings, language lab, etc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 charts, pictures boards, diagrams, maps, models, etc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457200" y="5029200"/>
          <a:ext cx="8229600" cy="13716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V, videotapes / discs, sound filmstrips, printed materials with recorded s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457200" y="1371600"/>
          <a:ext cx="8229600" cy="386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0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rdwa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oftwa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ipment and related electronic and mechanical compon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grams, printouts, or instructional materials that go with the mach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457200" y="380880"/>
          <a:ext cx="8229600" cy="3862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0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Med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n-Print Med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ed word is used predominantly in transmitting inform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fo is transmitted predominantly through AV 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457200" y="4267080"/>
          <a:ext cx="8229600" cy="1905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uide sheets, handouts, study guides, manuals, newsletters, 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V, models, real objects, audio recordings/discs, et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7200" y="8380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urc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quino, G., Abellera, R. and Hidalgo, L. (1988)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Principles of teaching and educational technology.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anila: National Bookstor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aro, C. (2007)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Teaching educational technology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Manila: Rex Publishi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entry, C. (1987)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Educational technology: A question of meaning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From Educational media and technology yearbook 1987. Littleton, CO. Libraries Unlimite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rabe, M. (2004).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 Integrating technology for meaningful learning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NY: Houghton Miffli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Jones, B. (1999)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A differentiating definition of instructional technology 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educational technology.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vailable onlin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 Narrow"/>
              </a:rPr>
              <a:t>Terms to be Cover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3410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ducation and Instru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ducational Technolog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structional Technolog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ther terms for educational/instructional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roadcast and Mass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udio, Visual, and Audio-Visual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ardware and Softw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int and Non-Print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 Narrow"/>
              </a:rPr>
              <a:t>Education vs Instr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cess used to impart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nterprise of supplying the conditions which ensure growth or adequacy of life irrespective of 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ct of imparting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ct of providing activities, materials and guidance that facilitates learning in either formal or informal situ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457200" y="879480"/>
          <a:ext cx="8229600" cy="4761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duca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struc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a field as wide as education itself, its primary concern is the design, implementation, and evaluation of curriculum and learning experiences, and how to improve and learn from them respective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focused on the teaching-learning process rather than on other aspects of edu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457200" y="1189080"/>
          <a:ext cx="8229600" cy="3994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duca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struc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a combination of instructional, learning, developmental, and managerial techn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those aspects of educational technology that are concerned primarily with instruction as contrasted to design and operation of instit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457200" y="655560"/>
          <a:ext cx="8229600" cy="5442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duca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struc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any move toward an analysis of the curriculum into specific objectives and instructional design, a branch of educational theory and practice concerned primarily with the design and the use of message which controls learning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systematic way of designing, carrying out, and evaluating the total process of learning and teaching in terms of specific objectives, based on research in human learning and 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457200" y="274680"/>
          <a:ext cx="8229600" cy="645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duca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struc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mary concern is the design, implementation and evaluation of curriculum and learning experiences and how to improve and learn from them respective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technology adapted and used for educational purpo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pplying scientific knowledge about human learning to the practical tasks of teaching and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means of connecting the teacher, the instructional experience &amp; learner in ways that enhance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 Narrow"/>
              </a:rPr>
              <a:t>Phases of Educational Techn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art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Line 4"/>
          <p:cNvSpPr/>
          <p:nvPr/>
        </p:nvSpPr>
        <p:spPr>
          <a:xfrm>
            <a:off x="29718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3886200" y="1828800"/>
            <a:ext cx="2438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y Objectiv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6324480" y="20574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5943600" y="2895480"/>
            <a:ext cx="243828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ign Learn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erien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Line 8"/>
          <p:cNvSpPr/>
          <p:nvPr/>
        </p:nvSpPr>
        <p:spPr>
          <a:xfrm flipH="1">
            <a:off x="6248160" y="3886200"/>
            <a:ext cx="9903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3733920" y="5029200"/>
            <a:ext cx="243828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aluate Learn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erien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Line 10"/>
          <p:cNvSpPr/>
          <p:nvPr/>
        </p:nvSpPr>
        <p:spPr>
          <a:xfrm flipH="1" flipV="1">
            <a:off x="2286000" y="403848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1523880" y="3495600"/>
            <a:ext cx="24386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Line 12"/>
          <p:cNvSpPr/>
          <p:nvPr/>
        </p:nvSpPr>
        <p:spPr>
          <a:xfrm>
            <a:off x="3962520" y="3657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3429000" y="40384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Line 14"/>
          <p:cNvSpPr/>
          <p:nvPr/>
        </p:nvSpPr>
        <p:spPr>
          <a:xfrm flipV="1">
            <a:off x="3429000" y="2361960"/>
            <a:ext cx="121932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01:51:16Z</dcterms:created>
  <dc:creator>User</dc:creator>
  <dc:description/>
  <dc:language>en-US</dc:language>
  <cp:lastModifiedBy>msu-iit</cp:lastModifiedBy>
  <dcterms:modified xsi:type="dcterms:W3CDTF">2011-06-28T02:56:15Z</dcterms:modified>
  <cp:revision>26</cp:revision>
  <dc:subject/>
  <dc:title>Educational Technology and its Related Terms</dc:title>
</cp:coreProperties>
</file>